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EE83B-DFB4-459A-BF7F-D4AD4B7D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D71D9-3FF0-44E1-9CE6-9B078343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1E4C5-8C6C-44F0-A75F-613A5FD6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94939-4563-4EF6-935C-FBC3AF2A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37325-0F49-4185-919A-4952EF06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30573-1362-4F8C-A9C0-B0B436E2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3E8E6-A88E-47D8-8B18-002996EB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EA30B-C664-4E1E-851B-C048AAC5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D2D2-D2CC-40A2-B342-136951CF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A3BD-634E-4BEF-81BB-43A83984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FDA44-13E6-4F08-BA25-1AE7D3F8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D9041-C141-495F-BDA0-C010B6F1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4D10-5886-4CA2-87A3-8E2CA0EE1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032C-2CED-4F14-B32E-245598CCF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3241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5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6248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29,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120" y="837720"/>
            <a:ext cx="7975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rcial Operations Subcommittee (CO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elle Trenary, Tenaska Powe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e Chai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Schatz, TXU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col Revision Subcommittee (P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Varnell, Tenaska Powe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e Chai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Lyons, Exel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ail Market Subcommittee (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thy Scott, CenterPoint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e Chai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 Bevill, Green Mountain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ility and Operations Subcommittee (R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el Firestone, Topaz Power Hol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e Chai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an Bern, Oncor Electric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lesale Market Subcommittee (W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h Cochran, DC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e Chai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b Helton, GDF Suez Energy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15080" y="15228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015 TAC Subcommittee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Albracht, Brittney</dc:creator>
  <dc:description/>
  <dc:language>en-US</dc:language>
  <cp:lastModifiedBy>Albracht, Brittney</cp:lastModifiedBy>
  <dcterms:modified xsi:type="dcterms:W3CDTF">2015-01-22T20:29:56Z</dcterms:modified>
  <cp:revision>76</cp:revision>
  <dc:subject/>
  <dc:title>Instructions</dc:title>
</cp:coreProperties>
</file>